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9A72-5A71-4A70-84CD-86BD743E96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 -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- 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- Geometrical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– Army School Roor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ared by Mrs. Ranj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rts of a circ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ixed point in the interior of circle whose distance from all the points on the circle is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= OB = OC = 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between the center and any point on the circle is called the radius of the circ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e which passes through the center and meet any two points on the circle is called the diame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meter is twice the length of radi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d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e which meet at any two points on the circle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meter is the longest chord of a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 is the chord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of a closed curve forming the boundary of the circle is called the circumferenc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ppy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 now its time to test those grey cells of yours!So all the best and happy click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orrect: Excell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-7 correct: Very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-7correct: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4 correct:F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-2 correct: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:A circle is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Simple close curve       (2)Ope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:A chord that goes through the center of the circ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hord    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3:A line that run between the circle and its cen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Radius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4:A line segments that join two points on the circ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hord 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Conce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understanding and appreciation of geometrical shapes and their characteris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and exhibit crea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power of thinking and reaso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scientific tem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5:The distance round the circle is called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ircumference                    (2)Ch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6:Can a circle have more than one cen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No                                      (2)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7:Diameter is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Twice of a radius   (2)Half of a 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8:If the radius of the circle is6cm ,then its diameter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12cm                 (2)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9:If diameter of the circle is 12cm, then its radiu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12cm                                   (2)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0:If radius of the circle 4cm, then its diameter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8cm                 (2)4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DONE!CORRECT ANSW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for the next question click on the next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RY 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RRECT ANSW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ter luck nex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Concep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be able to recognized different geometrical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be able to  relate various shapes like that of bangle, cart,cone,box etc with circle,triangle,quadrilateral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u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adrilat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le : Parts of a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g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mple closed figures by joining three or more line segments is called 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s study about types of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ang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losed figure formed by joining three line segments . So , a triangle is a polygon . Different shapes of triangle are shown below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line segments which form the triangle are called its sid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ilateral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losed figure formed by joining four line segments called quadrilateral.  So quadrilateral is a polygon. Different shapes of quadrilateral are shown below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ur line segments which form a quadrilateral are called its s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osed curve formed in such a way that any point on this curve is equidistant from a fixed point which is in the interior of the cur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= OB = OC = 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FFC-B2B8-4D4F-BA4D-85A4037F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813-419D-4CA2-92D3-5CB203C2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7BCE-0E67-4862-9912-3E53992F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3D9-A780-4675-B772-BFFB03DB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C233-84EF-4CD9-9AAF-AA33CE07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D3A3-0B4E-4A07-9AD4-E85514AA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DDAB-6E5F-406C-BB60-6296B488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F002-E8D5-4584-B0EC-9A858D0A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FC3F-C757-4153-A9BA-F48CFBC1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93DA-883C-4BFD-B83A-770C3EC8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ED0D-9784-47AC-A99A-B0F86364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205A-B830-4ECF-9737-2CA1F4D6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367E-0AA8-40F9-BF0B-01F33E3E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224A-7EB8-4193-898B-2CD09E0D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FEE2-BA29-4CE5-8408-051BFE7A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E25A-08A1-4D7F-BEE3-DA7190BD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9610-515A-4C20-ABE1-003D7E67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B6B4-E099-4F65-9834-BE8FFEE3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598-F33F-4C2B-A882-0C579702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0BD1-C011-4A9C-B56D-22EAC53D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ADF1-0FB3-42AB-B10C-ADB5F5DA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F42-A8B0-4B3E-8C0E-F84DCB49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4640-CE89-47B8-84B8-FC525407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4E0A-FB83-406A-85C1-9ADCEA52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9DBC-351F-4FBE-B89C-86DECA8F4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ED6A-F207-4294-8364-4C4ACD729DF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3000" y="669960"/>
            <a:ext cx="914400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Grade - 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ubject - Mathematic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Unit - Geomet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Topic - Geometrical shap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chool – Army School Roorke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Prepared by Mrs. Ranjan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AutoShape 3">
            <a:hlinkClick r:id="" action="ppaction://hlinkshowjump?jump=nextslide"/>
          </p:cNvPr>
          <p:cNvSpPr/>
          <p:nvPr/>
        </p:nvSpPr>
        <p:spPr>
          <a:xfrm>
            <a:off x="7696080" y="62485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523880" y="990720"/>
            <a:ext cx="914400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Parts of a circle 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en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Radiu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ame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hor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ircumferen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AutoShape 3">
            <a:hlinkClick r:id="rId1" action="ppaction://hlinksldjump"/>
          </p:cNvPr>
          <p:cNvSpPr/>
          <p:nvPr/>
        </p:nvSpPr>
        <p:spPr>
          <a:xfrm>
            <a:off x="518148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AutoShape 4">
            <a:hlinkClick r:id="rId2" action="ppaction://hlinksldjump"/>
          </p:cNvPr>
          <p:cNvSpPr/>
          <p:nvPr/>
        </p:nvSpPr>
        <p:spPr>
          <a:xfrm>
            <a:off x="5257800" y="29718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AutoShape 5">
            <a:hlinkClick r:id="rId3" action="ppaction://hlinksldjump"/>
          </p:cNvPr>
          <p:cNvSpPr/>
          <p:nvPr/>
        </p:nvSpPr>
        <p:spPr>
          <a:xfrm>
            <a:off x="5257800" y="4419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AutoShape 6">
            <a:hlinkClick r:id="rId4" action="ppaction://hlinksldjump"/>
          </p:cNvPr>
          <p:cNvSpPr/>
          <p:nvPr/>
        </p:nvSpPr>
        <p:spPr>
          <a:xfrm>
            <a:off x="5257800" y="3733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AutoShape 7">
            <a:hlinkClick r:id="rId5" action="ppaction://hlinksldjump"/>
          </p:cNvPr>
          <p:cNvSpPr/>
          <p:nvPr/>
        </p:nvSpPr>
        <p:spPr>
          <a:xfrm>
            <a:off x="5257800" y="5334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AutoShape 8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6094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Center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fixed point in the interior of circle whose distance from all the points on the circle is sa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3200400" y="3286080"/>
            <a:ext cx="2057400" cy="1857600"/>
          </a:xfrm>
          <a:prstGeom prst="flowChartSummingJunc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87692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000760" y="31431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071880" y="32148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895480" y="457200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4000680" y="36432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0" y="5943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A = OB = OC = 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AutoShape 15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8380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Radius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The distance between the center and any point on the circle is called the radius of the circle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0744200" y="3505320"/>
            <a:ext cx="914400" cy="9144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2928960" y="3643200"/>
            <a:ext cx="2209680" cy="19861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000680" y="46432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1353680" y="4495680"/>
            <a:ext cx="228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AA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9677520" y="4648320"/>
            <a:ext cx="45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5286240" y="428616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571920" y="428616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AutoShape 12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45720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Diameter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line which passes through the center and meet any two points on the circle is called the diame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Oval 3"/>
          <p:cNvSpPr/>
          <p:nvPr/>
        </p:nvSpPr>
        <p:spPr>
          <a:xfrm>
            <a:off x="2438280" y="2743200"/>
            <a:ext cx="1828800" cy="18288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 flipV="1">
            <a:off x="2514600" y="2895480"/>
            <a:ext cx="76320" cy="76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2428920" y="3714840"/>
            <a:ext cx="1828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000160" y="33577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4357800" y="34290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9906120" y="3581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0" y="4800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 diameter is twice the length of radi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AutoShape 46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3143160" y="32148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hor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The line which meet at any two points on the circle 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A diameter is the longest chord of a cir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D is the chord of the cir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1357200" y="3357720"/>
            <a:ext cx="2590920" cy="2338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4724280" y="3809880"/>
            <a:ext cx="2514600" cy="22622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 flipV="1">
            <a:off x="1500120" y="3929040"/>
            <a:ext cx="2286000" cy="46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4714920" y="4929120"/>
            <a:ext cx="2514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357800" y="4643280"/>
            <a:ext cx="1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7286760" y="4643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000080" y="37861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3857760" y="3571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357280" y="42148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AutoShape 14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786280" y="45720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144792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ircumferenc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Length of a closed curve forming the boundary of the circle is called the circumference of the circl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2819520" y="4038480"/>
            <a:ext cx="2514600" cy="2248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2666880" y="4724280"/>
            <a:ext cx="152640" cy="30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H="1">
            <a:off x="2819160" y="4724280"/>
            <a:ext cx="22860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AutoShape 6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533520" y="1295280"/>
            <a:ext cx="777240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Happy Reading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685800" y="1066680"/>
            <a:ext cx="845820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uiz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Well now its time to test those grey cells of yours!So all the best and happy clicking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SCORING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10 correct: Excell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8-7 correct: Very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5-7correct: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3-4 correct:Fa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0-2 correct:po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80880" y="1371600"/>
            <a:ext cx="8763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1:A circle is 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Simple close curve       (2)Open cur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2:A chord that goes through the center of the circl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hord    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AutoShape 3">
            <a:hlinkClick r:id="rId1" action="ppaction://hlinksldjump"/>
          </p:cNvPr>
          <p:cNvSpPr/>
          <p:nvPr/>
        </p:nvSpPr>
        <p:spPr>
          <a:xfrm>
            <a:off x="4786200" y="22147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AutoShape 4">
            <a:hlinkClick r:id="rId2" action="ppaction://hlinksldjump"/>
          </p:cNvPr>
          <p:cNvSpPr/>
          <p:nvPr/>
        </p:nvSpPr>
        <p:spPr>
          <a:xfrm>
            <a:off x="7429680" y="421488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AutoShape 5">
            <a:hlinkClick r:id="rId3" action="ppaction://hlinksldjump"/>
          </p:cNvPr>
          <p:cNvSpPr/>
          <p:nvPr/>
        </p:nvSpPr>
        <p:spPr>
          <a:xfrm>
            <a:off x="8686800" y="2214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AutoShape 6">
            <a:hlinkClick r:id="rId4" action="ppaction://hlinksldjump"/>
          </p:cNvPr>
          <p:cNvSpPr/>
          <p:nvPr/>
        </p:nvSpPr>
        <p:spPr>
          <a:xfrm>
            <a:off x="281952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09480" y="838080"/>
            <a:ext cx="8534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3:A line that run between the circle and its c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Radius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4:A line segments that join two points on the circl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hord 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AutoShape 3">
            <a:hlinkClick r:id="rId1" action="ppaction://hlinksldjump"/>
          </p:cNvPr>
          <p:cNvSpPr/>
          <p:nvPr/>
        </p:nvSpPr>
        <p:spPr>
          <a:xfrm>
            <a:off x="3124080" y="22096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AutoShape 4">
            <a:hlinkClick r:id="rId2" action="ppaction://hlinksldjump"/>
          </p:cNvPr>
          <p:cNvSpPr/>
          <p:nvPr/>
        </p:nvSpPr>
        <p:spPr>
          <a:xfrm>
            <a:off x="3276720" y="4191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7072200" y="214308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7238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1295280"/>
            <a:ext cx="914400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Major Concep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understanding and appreciation of geometrical shapes and their characteristi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and exhibit creativ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power of thinking and reason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scientific temp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;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609480" y="1981080"/>
            <a:ext cx="8534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5:The distance round the circle is called 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ircumference                    (2)Ch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6:Can a circle have more than one c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No                                      (2)Y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4214880" y="33577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143080" y="5715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928960" y="385776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2143080" y="621504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0" y="114300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7:Diameter is 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Twice of a radius   (2)Half of a radi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8:If the radius of the circle is6cm ,then its diameter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12cm                 (2)6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4143240" y="20001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1857240" y="471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8501040" y="200016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6215040" y="471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10666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9:If diameter of the circle is 12cm, then its radius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12cm                                   (2)6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10:If radius of the circle 4cm, then its diameter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8cm                 (2)4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1714680" y="485784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2133720" y="2438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2071800" y="300024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5929200" y="492912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609480" y="1676520"/>
            <a:ext cx="853452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WELLDONE!CORRECT ANSWER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Now for the next question click on the next ques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3">
            <a:hlinkClick r:id="" action="ppaction://hlinkshowjump?jump=previousslide"/>
          </p:cNvPr>
          <p:cNvSpPr/>
          <p:nvPr/>
        </p:nvSpPr>
        <p:spPr>
          <a:xfrm>
            <a:off x="7848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914400" y="1981080"/>
            <a:ext cx="6248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ORRY !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ORRECT ANSWER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Better luck next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AutoShape 3">
            <a:hlinkClick r:id="" action="ppaction://hlinkshowjump?jump=previousslide"/>
          </p:cNvPr>
          <p:cNvSpPr/>
          <p:nvPr/>
        </p:nvSpPr>
        <p:spPr>
          <a:xfrm>
            <a:off x="7620120" y="6095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026"/>
          <p:cNvSpPr/>
          <p:nvPr/>
        </p:nvSpPr>
        <p:spPr>
          <a:xfrm>
            <a:off x="0" y="1143000"/>
            <a:ext cx="9144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Minor Concept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udents will be able to recognized different geometrical shap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udents will be able to  relate various shapes like that of bangle, cart,cone,box etc with circle,triangle,quadrilateral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AutoShape 102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438280" y="914400"/>
            <a:ext cx="48006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Menu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Quiz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AutoShape 3">
            <a:hlinkClick r:id="rId1" action="ppaction://hlinksldjump"/>
          </p:cNvPr>
          <p:cNvSpPr/>
          <p:nvPr/>
        </p:nvSpPr>
        <p:spPr>
          <a:xfrm>
            <a:off x="4724280" y="19810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AutoShape 4">
            <a:hlinkClick r:id="rId2" action="ppaction://hlinksldjump"/>
          </p:cNvPr>
          <p:cNvSpPr/>
          <p:nvPr/>
        </p:nvSpPr>
        <p:spPr>
          <a:xfrm>
            <a:off x="4800600" y="2819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AutoShape 5">
            <a:hlinkClick r:id="" action="ppaction://hlinkshowjump?jump=nextslide"/>
          </p:cNvPr>
          <p:cNvSpPr/>
          <p:nvPr/>
        </p:nvSpPr>
        <p:spPr>
          <a:xfrm>
            <a:off x="7956720" y="6165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219320" y="0"/>
            <a:ext cx="7924680" cy="65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onten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Polyg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riang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uadrilat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ircle : Parts of a circ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adi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h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ircumfer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492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57200" y="533520"/>
            <a:ext cx="8153280" cy="34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Polygon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simple closed figures by joining three or more line segments is called polyg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71680" y="478620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Lets study about types of polyg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57200" y="457200"/>
            <a:ext cx="82296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Triangl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t is a closed figure formed by joining three line segments . So , a triangle is a polygon . Different shapes of triangle are shown below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three line segments which form the triangle are called its sides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1066680" y="3124080"/>
            <a:ext cx="914400" cy="914400"/>
          </a:xfrm>
          <a:prstGeom prst="rtTriangl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2743200" y="30481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380880"/>
            <a:ext cx="830592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Quadrilateral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t is a closed figure formed by joining four line segments called quadrilateral.  So quadrilateral is a polygon. Different shapes of quadrilateral are shown below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four line segments which form a quadrilateral are called its sid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914400" y="3505320"/>
            <a:ext cx="914400" cy="609480"/>
          </a:xfrm>
          <a:prstGeom prst="flowChartProcess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590920" y="3505320"/>
            <a:ext cx="914400" cy="609480"/>
          </a:xfrm>
          <a:prstGeom prst="flowChartInputOutpu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4191120" y="3657600"/>
            <a:ext cx="914400" cy="457200"/>
          </a:xfrm>
          <a:prstGeom prst="flowChartManualInpu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867280" y="3505320"/>
            <a:ext cx="914400" cy="609480"/>
          </a:xfrm>
          <a:prstGeom prst="flowChartDecis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7467480" y="3505320"/>
            <a:ext cx="914400" cy="609480"/>
          </a:xfrm>
          <a:prstGeom prst="flowChartManualOpera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30492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ircle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closed curve formed in such a way that any point on this curve is equidistant from a fixed point which is in the interior of the curv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203640" y="3429000"/>
            <a:ext cx="1749240" cy="1752480"/>
          </a:xfrm>
          <a:prstGeom prst="flowChartSummingJunc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716360" y="3284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716360" y="4869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755880" y="38098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A = OB = OC = O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AutoShape 1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3924360" y="3860640"/>
            <a:ext cx="287280" cy="28764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298764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3059280" y="4869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04:27:09Z</dcterms:created>
  <dc:creator>kanta k</dc:creator>
  <dc:description/>
  <dc:language>en-US</dc:language>
  <cp:lastModifiedBy>RomaK</cp:lastModifiedBy>
  <dcterms:modified xsi:type="dcterms:W3CDTF">2015-09-04T07:41:10Z</dcterms:modified>
  <cp:revision>23</cp:revision>
  <dc:subject/>
  <dc:title>No Slide Title</dc:title>
</cp:coreProperties>
</file>